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03d2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303d22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50FE0-C2E8-4EE7-ADBA-611AD785AFE8}" type="slidenum">
              <a:rPr b="0" lang="en-US" sz="1400" spc="-1" strike="noStrike">
                <a:solidFill>
                  <a:srgbClr val="303d2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Retention casts taken 1 year posttreatment showing the posterior molars in occlu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Diagnostic setup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facial and intraoral phot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panoramic radio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retreatment cephalometric radiograph and trac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facial and intraoral photograph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dental cast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panoramic radiograph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64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Baekmuk Gulim"/>
              </a:rPr>
              <a:t>Posttreatment cephalometric radiograph and tracin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lsevier.com/termsandconditions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lsevier.com/termsandconditions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1260360"/>
            <a:ext cx="8640720" cy="17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318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Arial"/>
              </a:rPr>
              <a:t>A “midline dilemma” in an adult mutilated dentition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2750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100" spc="-1" strike="noStrike">
                <a:solidFill>
                  <a:srgbClr val="ffffff"/>
                </a:solidFill>
                <a:latin typeface="Arial"/>
              </a:rPr>
              <a:t>John E. Bilodeau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 146, Issue 3, Pages 364-370 (September 2014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OI: 10.1016/j.ajodo.2013.10.025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4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22360" y="1162080"/>
            <a:ext cx="6350040" cy="4183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4 146, 364-370DOI: (10.1016/j.ajodo.2013.10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4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08400" y="79200"/>
            <a:ext cx="72720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22360" y="1336680"/>
            <a:ext cx="6350040" cy="3833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4 146, 364-370DOI: (10.1016/j.ajodo.2013.10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4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22360" y="1015920"/>
            <a:ext cx="6350040" cy="4476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4 146, 364-370DOI: (10.1016/j.ajodo.2013.10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4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22360" y="1292400"/>
            <a:ext cx="6350040" cy="392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4 146, 364-370DOI: (10.1016/j.ajodo.2013.10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4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22360" y="1539720"/>
            <a:ext cx="635004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4 146, 364-370DOI: (10.1016/j.ajodo.2013.10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4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22360" y="1023840"/>
            <a:ext cx="6350040" cy="4459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4 146, 364-370DOI: (10.1016/j.ajodo.2013.10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4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22360" y="974880"/>
            <a:ext cx="6350040" cy="4559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4 146, 364-370DOI: (10.1016/j.ajodo.2013.10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4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22360" y="1157400"/>
            <a:ext cx="6350040" cy="4192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4 146, 364-370DOI: (10.1016/j.ajodo.2013.10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4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22360" y="1539720"/>
            <a:ext cx="6350040" cy="3429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4 146, 364-370DOI: (10.1016/j.ajodo.2013.10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4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257720" y="79200"/>
            <a:ext cx="627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g 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22360" y="853920"/>
            <a:ext cx="6350040" cy="480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52560" y="6477120"/>
            <a:ext cx="8254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Arial"/>
              </a:rPr>
              <a:t>American Journal of Orthodontics and Dentofacial Orthopedics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 2014 146, 364-370DOI: (10.1016/j.ajodo.2013.10.025)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52560" y="6624720"/>
            <a:ext cx="55562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© 2014 American Association of Orthodontists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Terms and Condition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9200" y="6064200"/>
            <a:ext cx="708120" cy="793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